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C2B30-8482-4A19-AAA0-EC2FF572F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20360" y="684000"/>
            <a:ext cx="8458200" cy="10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20360" y="1949040"/>
            <a:ext cx="885348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20360" y="3939480"/>
            <a:ext cx="885348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9980A-F0FD-46EF-9488-8E0432164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20360" y="684000"/>
            <a:ext cx="8458200" cy="10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20360" y="1949040"/>
            <a:ext cx="432036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57080" y="1949040"/>
            <a:ext cx="432036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20360" y="3939480"/>
            <a:ext cx="432036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257080" y="3939480"/>
            <a:ext cx="432036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925C7-FF69-4C9A-BAA8-1576618EA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20360" y="684000"/>
            <a:ext cx="8458200" cy="10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20360" y="1949040"/>
            <a:ext cx="285048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13760" y="1949040"/>
            <a:ext cx="285048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707160" y="1949040"/>
            <a:ext cx="285048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20360" y="3939480"/>
            <a:ext cx="285048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13760" y="3939480"/>
            <a:ext cx="285048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707160" y="3939480"/>
            <a:ext cx="285048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B39BB-A44E-4D24-B955-F28192C9F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AE726-C0AE-4312-8DCA-5095F122B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20360" y="684000"/>
            <a:ext cx="8458200" cy="10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720360" y="1949040"/>
            <a:ext cx="885348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5B665-AC5D-4CB6-8E62-61CA1089B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20360" y="684000"/>
            <a:ext cx="8458200" cy="10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20360" y="1949040"/>
            <a:ext cx="885348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61395-EE89-411E-BFBF-7CB5C8B7B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20360" y="684000"/>
            <a:ext cx="8458200" cy="10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20360" y="1949040"/>
            <a:ext cx="432036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257080" y="1949040"/>
            <a:ext cx="432036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BF6B1-5ACB-4D4A-8058-CBA113077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20360" y="684000"/>
            <a:ext cx="8458200" cy="10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267B0-9EF6-46BF-80F4-EF95C5FAD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720360" y="684000"/>
            <a:ext cx="8458200" cy="47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49E07-ED04-48F7-BFA4-8453712D5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20360" y="684000"/>
            <a:ext cx="8458200" cy="10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20360" y="1949040"/>
            <a:ext cx="432036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257080" y="1949040"/>
            <a:ext cx="432036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720360" y="3939480"/>
            <a:ext cx="432036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BB6A4-198C-4C46-A933-4E4D63434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20360" y="684000"/>
            <a:ext cx="8458200" cy="10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20360" y="1949040"/>
            <a:ext cx="885348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B6E83-DBDD-4318-9E47-B18713DB0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20360" y="684000"/>
            <a:ext cx="8458200" cy="10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20360" y="1949040"/>
            <a:ext cx="432036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257080" y="1949040"/>
            <a:ext cx="432036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257080" y="3939480"/>
            <a:ext cx="432036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6EEBB-ED76-48B0-8F07-1BFBE64EC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20360" y="684000"/>
            <a:ext cx="8458200" cy="10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20360" y="1949040"/>
            <a:ext cx="432036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57080" y="1949040"/>
            <a:ext cx="432036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20360" y="3939480"/>
            <a:ext cx="885348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A9070-D658-4C8D-B653-3386B6623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20360" y="684000"/>
            <a:ext cx="8458200" cy="10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20360" y="1949040"/>
            <a:ext cx="885348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20360" y="3939480"/>
            <a:ext cx="885348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80B4D-8E38-4299-89FC-DBB6634E4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20360" y="684000"/>
            <a:ext cx="8458200" cy="10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20360" y="1949040"/>
            <a:ext cx="432036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257080" y="1949040"/>
            <a:ext cx="432036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20360" y="3939480"/>
            <a:ext cx="432036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257080" y="3939480"/>
            <a:ext cx="432036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E55D9-FC0E-48B2-814E-DD194A98F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20360" y="684000"/>
            <a:ext cx="8458200" cy="10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20360" y="1949040"/>
            <a:ext cx="285048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13760" y="1949040"/>
            <a:ext cx="285048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707160" y="1949040"/>
            <a:ext cx="285048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720360" y="3939480"/>
            <a:ext cx="285048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713760" y="3939480"/>
            <a:ext cx="285048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707160" y="3939480"/>
            <a:ext cx="285048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91B8E-CD8A-41D8-8852-B6A6173EF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20360" y="684000"/>
            <a:ext cx="8458200" cy="10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20360" y="1949040"/>
            <a:ext cx="885348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52C0F-DD26-4373-8078-3A1B59B5D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20360" y="684000"/>
            <a:ext cx="8458200" cy="10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20360" y="1949040"/>
            <a:ext cx="432036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257080" y="1949040"/>
            <a:ext cx="432036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0D1AF-E0DF-404A-8023-047208277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20360" y="684000"/>
            <a:ext cx="8458200" cy="10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CD0EA-B0A9-4171-AC83-737D576F6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20360" y="684000"/>
            <a:ext cx="8458200" cy="47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4D4D9-44DA-408B-AC50-3EDACB23D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20360" y="684000"/>
            <a:ext cx="8458200" cy="10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20360" y="1949040"/>
            <a:ext cx="432036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57080" y="1949040"/>
            <a:ext cx="432036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20360" y="3939480"/>
            <a:ext cx="432036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56581-0F11-40AD-8B3B-8BBA613DD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20360" y="684000"/>
            <a:ext cx="8458200" cy="10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20360" y="1949040"/>
            <a:ext cx="432036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57080" y="1949040"/>
            <a:ext cx="432036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257080" y="3939480"/>
            <a:ext cx="432036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5CD65-C7FA-4FE1-8A3B-12F2F5FA7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20360" y="684000"/>
            <a:ext cx="8458200" cy="10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20360" y="1949040"/>
            <a:ext cx="432036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57080" y="1949040"/>
            <a:ext cx="432036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20360" y="3939480"/>
            <a:ext cx="885348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8C3A2-AF68-43F4-AB84-7568794CF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28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20360" y="1979640"/>
            <a:ext cx="885348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6000"/>
          </a:bodyPr>
          <a:p>
            <a:pPr marL="32904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1" marL="329040" indent="-3290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2" marL="329040" indent="-3290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3" marL="329040" indent="-3290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4" marL="329040" indent="-3290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5" marL="329040" indent="-3290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6" marL="329040" indent="-3290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12720" y="656280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56080" y="656280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335720" y="656280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084905-174A-4C2D-9E90-DDF8B36ECE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20360" y="684000"/>
            <a:ext cx="8458200" cy="10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20360" y="1949040"/>
            <a:ext cx="885348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88000"/>
          </a:bodyPr>
          <a:p>
            <a:pPr marL="3016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01680" indent="-3016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01680" indent="-3016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01680" indent="-3016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01680" indent="-3016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01680" indent="-3016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01680" indent="-3016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39640" y="631836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266640" y="634680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831000" y="634680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79D346-9694-4487-87CE-F79BDC284D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20360" y="684360"/>
            <a:ext cx="8459640" cy="10238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cros for ImageJ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720360" y="1949400"/>
            <a:ext cx="8854920" cy="3811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stin Blan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ical Instruments San Francis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20360" y="684360"/>
            <a:ext cx="8459640" cy="10238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a Macr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720360" y="1949400"/>
            <a:ext cx="8854920" cy="3811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iature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s reduced or custom 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nded for rapid user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y on library of fun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 reduce human time invest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dur="indefinite" fill="hold">
                      <p:stCondLst>
                        <p:cond delay="indefinite"/>
                      </p:stCondLst>
                      <p:childTnLst>
                        <p:par>
                          <p:cTn id="2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dur="indefinite" fill="hold">
                      <p:stCondLst>
                        <p:cond delay="indefinite"/>
                      </p:stCondLst>
                      <p:childTnLst>
                        <p:par>
                          <p:cTn id="3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dur="indefinite" fill="hold">
                      <p:stCondLst>
                        <p:cond delay="indefinite"/>
                      </p:stCondLst>
                      <p:childTnLst>
                        <p:par>
                          <p:cTn id="3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80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8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8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8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dur="indefinite" fill="hold">
                      <p:stCondLst>
                        <p:cond delay="indefinite"/>
                      </p:stCondLst>
                      <p:childTnLst>
                        <p:par>
                          <p:cTn id="4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20360" y="684360"/>
            <a:ext cx="8459640" cy="10238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en to use a macr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20360" y="1949400"/>
            <a:ext cx="8854920" cy="3811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eatability – no user err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tch Processing of Images (100+?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x processing or analysis rout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dur="indefinite" fill="hold">
                      <p:stCondLst>
                        <p:cond delay="indefinite"/>
                      </p:stCondLst>
                      <p:childTnLst>
                        <p:par>
                          <p:cTn id="6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4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dur="indefinite" fill="hold">
                      <p:stCondLst>
                        <p:cond delay="indefinite"/>
                      </p:stCondLst>
                      <p:childTnLst>
                        <p:par>
                          <p:cTn id="6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9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dur="indefinite" fill="hold">
                      <p:stCondLst>
                        <p:cond delay="indefinite"/>
                      </p:stCondLst>
                      <p:childTnLst>
                        <p:par>
                          <p:cTn id="7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4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20360" y="684360"/>
            <a:ext cx="8459640" cy="10238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20360" y="1949400"/>
            <a:ext cx="8854920" cy="3811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er 300 macros onlin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727280" indent="-57312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 Libr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727280" indent="-57312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ums/LinkedIn Grou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dur="indefinite" fill="hold">
                      <p:stCondLst>
                        <p:cond delay="indefinite"/>
                      </p:stCondLst>
                      <p:childTnLst>
                        <p:par>
                          <p:cTn id="7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85" dur="indefinite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7" dur="20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dur="indefinite" fill="hold">
                      <p:stCondLst>
                        <p:cond delay="indefinite"/>
                      </p:stCondLst>
                      <p:childTnLst>
                        <p:par>
                          <p:cTn id="8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dur="indefinite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dur="indefinite" fill="hold">
                      <p:stCondLst>
                        <p:cond delay="indefinite"/>
                      </p:stCondLst>
                      <p:childTnLst>
                        <p:par>
                          <p:cTn id="10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20360" y="684360"/>
            <a:ext cx="8459640" cy="10238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cro Creation Workfl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20360" y="1949400"/>
            <a:ext cx="88549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 out sequence of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only 1 im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ord Mac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it mac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727280" indent="-57312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ean up redundan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727280" indent="-57312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y “batch”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dur="indefinite" fill="hold">
                      <p:stCondLst>
                        <p:cond delay="indefinite"/>
                      </p:stCondLst>
                      <p:childTnLst>
                        <p:par>
                          <p:cTn id="11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dur="indefinite" fill="hold">
                      <p:stCondLst>
                        <p:cond delay="indefinite"/>
                      </p:stCondLst>
                      <p:childTnLst>
                        <p:par>
                          <p:cTn id="11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dur="indefinite" fill="hold">
                      <p:stCondLst>
                        <p:cond delay="indefinite"/>
                      </p:stCondLst>
                      <p:childTnLst>
                        <p:par>
                          <p:cTn id="1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27" dur="20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dur="indefinite" fill="hold">
                      <p:stCondLst>
                        <p:cond delay="indefinite"/>
                      </p:stCondLst>
                      <p:childTnLst>
                        <p:par>
                          <p:cTn id="12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50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50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dur="indefinite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dur="indefinite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3" dur="500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20360" y="684360"/>
            <a:ext cx="8459640" cy="10238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unning a ba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20360" y="1949040"/>
            <a:ext cx="8854920" cy="397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#1 Problem – image nam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#2 Problem – changing cond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e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727280" indent="-57312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BatchMode(true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727280" indent="-57312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ose non-required wind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72728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dur="indefinite" fill="hold">
                      <p:stCondLst>
                        <p:cond delay="indefinite"/>
                      </p:stCondLst>
                      <p:childTnLst>
                        <p:par>
                          <p:cTn id="14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0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dur="indefinite" fill="hold">
                      <p:stCondLst>
                        <p:cond delay="indefinite"/>
                      </p:stCondLst>
                      <p:childTnLst>
                        <p:par>
                          <p:cTn id="15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5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dur="indefinite" fill="hold">
                      <p:stCondLst>
                        <p:cond delay="indefinite"/>
                      </p:stCondLst>
                      <p:childTnLst>
                        <p:par>
                          <p:cTn id="15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0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3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6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20360" y="684360"/>
            <a:ext cx="8459640" cy="10238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riab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20360" y="1949400"/>
            <a:ext cx="8854920" cy="3811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ber, letter(s) “string”, or arr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e change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fined (no int, char, str, double, et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d to use for advanced purpo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dur="indefinite" fill="hold">
                      <p:stCondLst>
                        <p:cond delay="indefinite"/>
                      </p:stCondLst>
                      <p:childTnLst>
                        <p:par>
                          <p:cTn id="17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73" dur="2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dur="indefinite" fill="hold">
                      <p:stCondLst>
                        <p:cond delay="indefinite"/>
                      </p:stCondLst>
                      <p:childTnLst>
                        <p:par>
                          <p:cTn id="17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78" dur="2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dur="indefinite" fill="hold">
                      <p:stCondLst>
                        <p:cond delay="indefinite"/>
                      </p:stCondLst>
                      <p:childTnLst>
                        <p:par>
                          <p:cTn id="18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83" dur="2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dur="indefinite" fill="hold">
                      <p:stCondLst>
                        <p:cond delay="indefinite"/>
                      </p:stCondLst>
                      <p:childTnLst>
                        <p:par>
                          <p:cTn id="18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88" dur="20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6T17:23:24Z</dcterms:created>
  <dc:creator/>
  <dc:description>Presentation Layout Template</dc:description>
  <dc:language>en-US</dc:language>
  <cp:lastModifiedBy/>
  <dcterms:modified xsi:type="dcterms:W3CDTF">2012-04-17T16:55:39Z</dcterms:modified>
  <cp:revision>9</cp:revision>
  <dc:subject/>
  <dc:title>Blue Border</dc:title>
</cp:coreProperties>
</file>